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AE8-3B77-4852-91A3-589178A9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454-D53C-4E84-90B0-099625DF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283-6AE8-4BC3-88BD-BC907DC8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EF6-90FC-4755-97E1-EF478119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693-9F1A-4F69-9C37-322EB74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780-8BF2-4122-A794-04741C36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E56-78C1-4CEA-8682-1D42032A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A8C-9135-4DDB-BA4F-578D8DA7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83C-8BD4-47E3-BD33-65A1D56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367-661D-49A4-8686-A395187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034-6217-485B-A9C9-93D1D76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B0F-D3EF-434B-AACF-E838B70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D1B-576A-484D-8088-211542B92C1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2A8-8F36-423C-ACAE-E78803AE59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12192120" cy="1392120"/>
          </a:xfrm>
          <a:prstGeom prst="rect">
            <a:avLst/>
          </a:prstGeom>
          <a:solidFill>
            <a:srgbClr val="b9d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Изображение" descr="Изображение"/>
          <p:cNvPicPr/>
          <p:nvPr/>
        </p:nvPicPr>
        <p:blipFill>
          <a:blip r:embed="rId2"/>
          <a:stretch/>
        </p:blipFill>
        <p:spPr>
          <a:xfrm>
            <a:off x="10299600" y="0"/>
            <a:ext cx="1892520" cy="139068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37"/>
          <p:cNvSpPr/>
          <p:nvPr/>
        </p:nvSpPr>
        <p:spPr>
          <a:xfrm>
            <a:off x="9637560" y="6489720"/>
            <a:ext cx="231156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778-47EE-4F2B-9DF1-A42C5593250E}" type="slidenum">
              <a:rPr b="0" lang="ru-RU" sz="600" spc="-1" strike="noStrike">
                <a:solidFill>
                  <a:srgbClr val="7f7f7f"/>
                </a:solidFill>
                <a:latin typeface="Gramatika Light Ital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3"/>
          <a:srcRect l="0" t="0" r="69172" b="0"/>
          <a:stretch/>
        </p:blipFill>
        <p:spPr>
          <a:xfrm>
            <a:off x="10842480" y="325440"/>
            <a:ext cx="808200" cy="74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7" descr=""/>
          <p:cNvPicPr/>
          <p:nvPr/>
        </p:nvPicPr>
        <p:blipFill>
          <a:blip r:embed="rId4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1"/>
          <p:cNvSpPr/>
          <p:nvPr/>
        </p:nvSpPr>
        <p:spPr>
          <a:xfrm>
            <a:off x="0" y="380880"/>
            <a:ext cx="10461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Чат-Бот  </a:t>
            </a:r>
            <a:r>
              <a:rPr b="1" lang="en-US" sz="2000" spc="-1" strike="noStrike">
                <a:solidFill>
                  <a:srgbClr val="1f4e79"/>
                </a:solidFill>
                <a:latin typeface="Calibri"/>
              </a:rPr>
              <a:t>PreObrazovanie52B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5"/>
          <a:stretch/>
        </p:blipFill>
        <p:spPr>
          <a:xfrm>
            <a:off x="887400" y="1666800"/>
            <a:ext cx="520848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ая выноска 13"/>
          <p:cNvSpPr/>
          <p:nvPr/>
        </p:nvSpPr>
        <p:spPr>
          <a:xfrm>
            <a:off x="7020000" y="1728720"/>
            <a:ext cx="3124080" cy="1501920"/>
          </a:xfrm>
          <a:prstGeom prst="wedgeRectCallout">
            <a:avLst>
              <a:gd name="adj1" fmla="val -67643"/>
              <a:gd name="adj2" fmla="val 46981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Calibri"/>
              </a:rPr>
              <a:t>Знакомьтесь, Чат-Бот  </a:t>
            </a:r>
            <a:r>
              <a:rPr b="1" lang="en-US" sz="1600" spc="-1" strike="noStrike">
                <a:solidFill>
                  <a:srgbClr val="1f4e79"/>
                </a:solidFill>
                <a:latin typeface="Calibri"/>
              </a:rPr>
              <a:t>PreObrazovanie52B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Я Ваш виртуальный помощ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«в мире законодательства об образовани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ая выноска 14"/>
          <p:cNvSpPr/>
          <p:nvPr/>
        </p:nvSpPr>
        <p:spPr>
          <a:xfrm>
            <a:off x="5729400" y="4365720"/>
            <a:ext cx="2752560" cy="523800"/>
          </a:xfrm>
          <a:prstGeom prst="wedgeRectCallout">
            <a:avLst>
              <a:gd name="adj1" fmla="val -68379"/>
              <a:gd name="adj2" fmla="val -39064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Чем я могу быть полезен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4"/>
          <p:cNvSpPr/>
          <p:nvPr/>
        </p:nvSpPr>
        <p:spPr>
          <a:xfrm>
            <a:off x="395280" y="4156200"/>
            <a:ext cx="695628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Расскажу о проек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могу ответить на вопросы, а также предостави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интересный конт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готовые кейсы по направлениям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примеры документов (форм документ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могу реши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имеющиеся проблемы, предупредить нарушения законодатель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оптимизировать и совершенствовать деяте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снизить административную нагрузку на работников и обучающихся О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4" descr=""/>
          <p:cNvPicPr/>
          <p:nvPr/>
        </p:nvPicPr>
        <p:blipFill>
          <a:blip r:embed="rId1"/>
          <a:srcRect l="21459" t="13949" r="29585" b="31482"/>
          <a:stretch/>
        </p:blipFill>
        <p:spPr>
          <a:xfrm>
            <a:off x="5602320" y="2154240"/>
            <a:ext cx="596880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Левая фигурная скобка 22"/>
          <p:cNvSpPr/>
          <p:nvPr/>
        </p:nvSpPr>
        <p:spPr>
          <a:xfrm>
            <a:off x="658800" y="2222640"/>
            <a:ext cx="155520" cy="22604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2260440"/>
              <a:gd name="textAreaBottom" fmla="*/ 225648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вал 34" descr=""/>
          <p:cNvPicPr/>
          <p:nvPr/>
        </p:nvPicPr>
        <p:blipFill>
          <a:blip r:embed="rId2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4" descr=""/>
          <p:cNvPicPr/>
          <p:nvPr/>
        </p:nvPicPr>
        <p:blipFill>
          <a:blip r:embed="rId3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66" descr=""/>
          <p:cNvPicPr/>
          <p:nvPr/>
        </p:nvPicPr>
        <p:blipFill>
          <a:blip r:embed="rId4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7" descr=""/>
          <p:cNvPicPr/>
          <p:nvPr/>
        </p:nvPicPr>
        <p:blipFill>
          <a:blip r:embed="rId5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0" y="380880"/>
            <a:ext cx="104965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Verdana"/>
                <a:ea typeface="Verdana"/>
              </a:rPr>
              <a:t>Копилка успешного опыта по соблюдению законодатель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Verdana"/>
                <a:ea typeface="Verdana"/>
              </a:rPr>
              <a:t>в том числе по снижению документарной нагруз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814320" y="1352520"/>
            <a:ext cx="547704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Разработаны проекты  –готовые решения (кейсы) по вопрос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Соблюдение ФГОС и прав обучающихс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Государственно-общественное управл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Формы получения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Оценивание результатов освоения ОП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Обучение по ИУП при наличии неликвидированной академической задолженности по промежуточной аттеста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Право обучающихся на зач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Практическая подготов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Сетевая форма реализации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рием детей на обучение в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ереход на обновленные ФГОС в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латные образовательные  услуги в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128520" y="468324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138240" y="5784840"/>
            <a:ext cx="56808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136440" y="523548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109440" y="315432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7" descr=""/>
          <p:cNvPicPr/>
          <p:nvPr/>
        </p:nvPicPr>
        <p:blipFill>
          <a:blip r:embed="rId4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0" y="380880"/>
            <a:ext cx="105789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Телеграм-канал «ОбрНадзор52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Текст 4"/>
          <p:cNvSpPr/>
          <p:nvPr/>
        </p:nvSpPr>
        <p:spPr>
          <a:xfrm>
            <a:off x="2624040" y="1608120"/>
            <a:ext cx="9684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месяцев –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e79"/>
                </a:solidFill>
                <a:latin typeface="Verdana"/>
                <a:ea typeface="Verdana"/>
              </a:rPr>
              <a:t>более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e79"/>
                </a:solidFill>
                <a:latin typeface="Verdana"/>
                <a:ea typeface="Verdana"/>
              </a:rPr>
              <a:t>3 000 подписч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се типы образовательных организац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«ОбрНадзор52»  - источник актуальн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достоверной и оперативной инфор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конодательство  об образов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овости, анонсы событий,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рафоны самопровер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Открытые профилактические визи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инспекторами» в прямом эф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тветы на вопро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мен мнениями, идеями, лайфха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бликация полезных ссыл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е другое не менее полезное и важ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260280" y="2108160"/>
            <a:ext cx="22939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6"/>
          <a:stretch/>
        </p:blipFill>
        <p:spPr>
          <a:xfrm>
            <a:off x="398520" y="4272120"/>
            <a:ext cx="188280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380880"/>
            <a:ext cx="10596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Профилактика -  в помощь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785880" y="1461960"/>
            <a:ext cx="53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ки по соблюдению законодательства (визуализация вопро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людения законодательств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1" descr=""/>
          <p:cNvPicPr/>
          <p:nvPr/>
        </p:nvPicPr>
        <p:blipFill>
          <a:blip r:embed="rId4"/>
          <a:srcRect l="53770" t="8194" r="23291" b="4679"/>
          <a:stretch/>
        </p:blipFill>
        <p:spPr>
          <a:xfrm>
            <a:off x="977760" y="2522520"/>
            <a:ext cx="1470240" cy="313992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sp>
        <p:nvSpPr>
          <p:cNvPr id="118" name="TextBox 22"/>
          <p:cNvSpPr/>
          <p:nvPr/>
        </p:nvSpPr>
        <p:spPr>
          <a:xfrm>
            <a:off x="6635880" y="1476360"/>
            <a:ext cx="47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профессионального экспертного со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улярные экспертные сесс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4 раза в год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5"/>
          <a:stretch/>
        </p:blipFill>
        <p:spPr>
          <a:xfrm>
            <a:off x="2898720" y="2568600"/>
            <a:ext cx="1393920" cy="315108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pic>
        <p:nvPicPr>
          <p:cNvPr id="120" name="Рисунок 2" descr=""/>
          <p:cNvPicPr/>
          <p:nvPr/>
        </p:nvPicPr>
        <p:blipFill>
          <a:blip r:embed="rId6"/>
          <a:stretch/>
        </p:blipFill>
        <p:spPr>
          <a:xfrm>
            <a:off x="4819680" y="2549520"/>
            <a:ext cx="1441440" cy="315432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pic>
        <p:nvPicPr>
          <p:cNvPr id="121" name="Рисунок 3" descr=""/>
          <p:cNvPicPr/>
          <p:nvPr/>
        </p:nvPicPr>
        <p:blipFill>
          <a:blip r:embed="rId7"/>
          <a:stretch/>
        </p:blipFill>
        <p:spPr>
          <a:xfrm>
            <a:off x="7176960" y="2701800"/>
            <a:ext cx="3652920" cy="31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9T11:00:07Z</dcterms:created>
  <dc:creator>Ксения Борисова</dc:creator>
  <dc:description/>
  <dc:language>en-US</dc:language>
  <cp:lastModifiedBy>Новиков В.В.</cp:lastModifiedBy>
  <cp:lastPrinted>2023-06-20T13:42:04Z</cp:lastPrinted>
  <dcterms:modified xsi:type="dcterms:W3CDTF">2023-07-18T07:04:43Z</dcterms:modified>
  <cp:revision>237</cp:revision>
  <dc:subject/>
  <dc:title>Презентация PowerPoint</dc:title>
</cp:coreProperties>
</file>